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C5510-20EE-4230-91CC-75853674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6B75-5CCE-4500-9286-5815A159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2C070-C1F8-4668-8D9C-1770122C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B2486-729B-465F-AE84-46548F62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0458-67A8-41EA-8C81-BDF8E4D8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7310-5B3C-48A4-BC91-20579124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1C90-0A18-419B-94AD-6E8CC562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171B-85BA-486C-82C1-D0EBCBC1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1AE3-98E0-457A-A474-FDEE3A70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0479-94B8-48EB-B153-B21D89F8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DA39-E135-4503-8829-0CF78360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6519F-2D11-4B60-81F3-86667617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31E9-C717-428D-A1FE-D2B915BD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78BD-F5F9-4B60-858C-1AE62771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6538-07D1-42C1-B22A-9C8D1112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4274-A95E-46E2-A06A-DF82E20D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2296-7135-4E71-898E-2CDE0B66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BAC76-4418-49F4-8416-E215A841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7D55-271D-416A-A6FE-6DC101D7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8F41-FE7D-47D0-BB1A-20CB09F4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333BC-4F99-4F4E-9CED-7A04AB2F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9D8D4-92C6-47EA-9AF5-D68AD3ED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699F-9620-4BB0-9590-48A883C1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6EA45-CFBF-4A8D-AC60-A21385B0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493B-563C-41C0-84AC-DF7E9304CF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DD47-14EF-4C56-985F-45986D747F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바탕"/>
              </a:rPr>
              <a:t>“</a:t>
            </a:r>
            <a:r>
              <a:rPr b="1" lang="en-US" sz="6000" spc="-1" strike="noStrike">
                <a:solidFill>
                  <a:srgbClr val="e5e5ff"/>
                </a:solidFill>
                <a:latin typeface="바탕"/>
              </a:rPr>
              <a:t>Trifles”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4876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Susan Glaspel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71800" y="2048040"/>
            <a:ext cx="3352680" cy="2452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1041480" cy="1625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174680" cy="1473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0" t="11249" r="0" b="0"/>
          <a:stretch/>
        </p:blipFill>
        <p:spPr>
          <a:xfrm>
            <a:off x="7238880" y="4754520"/>
            <a:ext cx="1511280" cy="1443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658280" y="457200"/>
            <a:ext cx="78408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769608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4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r. &amp; Mrs. H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orge Clooney and Julianne Mo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orge is a versatile actor and one of my favori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ulianne is an excellent actress, middle aged and not as thin as Mrs. Pet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76520" y="350532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638680" y="3505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eriff &amp; Mrs. P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aron Eckhart and Nicole Kidm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Aaron because he is middle aged and reminds me of a sheriff in this pict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Nicole because she is thin and wiry as Mrs. Peters is describ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791320" y="3886200"/>
            <a:ext cx="2104920" cy="21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unty Attorney, Mr. Hender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in Farr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Colin because he is young, has a professional appearance as a lawyer and he played a very good detective in the movie “Minority Report”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2324160" cy="3486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r. &amp; Mrs. Wrigh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hony Hopkins and Kathy B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Kathy because she is such a versatile actress and she was awesome in “Misery”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hony is one of my favorite actors.  He is very versatile and talented and I loved his characters in “Meet Joe Black” and “Silence of the Lambs”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10080" y="3276720"/>
            <a:ext cx="2503440" cy="3105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2667240" cy="28195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ng Sel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ung Up” by Madonna – Because Mr. Wright was hung by a rop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ck and Tired” by Everclear – Obviously Mrs. Wright was sick and tired of her life with a hard man that degraded h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cture to Burn” by Taylor Swift – Because of the lyrics, “there’s no time for tears, I’m just sitting here planning my revenge, there’s nothing stopping me.”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lue on Black” by Kenny Wayne Shepherd – Because of a line in the chorus,  “a dead man’s touch” and “wrong can’t be undone”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en a Woman’s Fed Up” by R Kelly – Because she was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 the images that I chose were mentioned in the play.  Mrs. Wright had a singing canary, canned preserves, quilted, and her husband was murdered by a rope.  The picture of the farm house was a realistic image especially because it had a second floor.  Mr. Wright was murdered in the upstairs bedroom.  I think these images would attract movie goe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1:54:41Z</dcterms:created>
  <dc:creator>Lowe family</dc:creator>
  <dc:description/>
  <dc:language>en-US</dc:language>
  <cp:lastModifiedBy>Lowe family</cp:lastModifiedBy>
  <dcterms:modified xsi:type="dcterms:W3CDTF">2008-04-06T19:07:19Z</dcterms:modified>
  <cp:revision>19</cp:revision>
  <dc:subject/>
  <dc:title>“Trifles”</dc:title>
</cp:coreProperties>
</file>